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51F2-7C0A-40EC-B03A-265FFF55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9CF3-D555-47CA-AABE-E76735ED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D91-437F-4E33-8B0A-0483D12B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89E-1CF0-4A2F-BD10-696D8D09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C7D6-EA96-4059-AB52-69854BE2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0A31-34DB-40E4-AB0C-276881DB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D697-193C-443C-8D0F-00AF1289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CF1-3921-4734-84B2-1CDA9641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E6CC-F29A-4DCD-B7AB-D0134687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34C8-E18F-4FB6-86E3-3C09ED00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43C-BB7C-4F08-9A28-4F3C29A3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C556-A03B-42DA-98F3-0EB63D51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C677-6956-48AF-A8CE-BDB6E1710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ummer School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tersession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District 6                      Operations Meeting               March 11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67400" y="2438280"/>
            <a:ext cx="331632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burn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ma Vista &amp; May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rence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ll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iotrope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tington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e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ison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ara &amp; 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ific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mes &amp; Vernon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ford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edy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er School 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5880" y="4724280"/>
            <a:ext cx="2497320" cy="16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Gate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ast 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Int’l Studie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East 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Gate 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wood AHS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er School 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91320" y="4518000"/>
            <a:ext cx="280188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2a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2a16"/>
                </a:solidFill>
                <a:latin typeface="Arial"/>
              </a:rPr>
              <a:t>Program Code 123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ion for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eleme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 middl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 senior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s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8731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a16"/>
                </a:solidFill>
                <a:latin typeface="Arial"/>
              </a:rPr>
              <a:t>nancy.robinson @ lausd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323) 278-398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14600" y="3413160"/>
            <a:ext cx="35352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er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ary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2a16"/>
                </a:solidFill>
                <a:latin typeface="Arial"/>
              </a:rPr>
              <a:t>July 6 -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2a16"/>
                </a:solidFill>
                <a:latin typeface="Arial"/>
              </a:rPr>
              <a:t>July 6 -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2a16"/>
                </a:solidFill>
                <a:latin typeface="Arial"/>
              </a:rPr>
              <a:t>July 6 - August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335268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Applic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3 – April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533520"/>
            <a:ext cx="7925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summer.lausd.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3581280"/>
            <a:ext cx="2384640" cy="263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4600" y="3846600"/>
            <a:ext cx="293832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-Ch-Ch-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286000" cy="3657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6019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wer Summer School Si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onger Academic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ition of Math in Grades 2 &amp;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r Elementary Classes 24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itional Supervision Aide for second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Assistant Principal for high schools over 15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Custodial Over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wer paid preparation h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s 2 – 5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Ar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d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d Eligibility  for voluntary 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BB or BB in ELA or Math,      Final Reading or Math mark of 1,  1 on Unit 3 PWA,                          SOAR Unit 3 Comprehen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upervision A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er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77120" y="2666880"/>
            <a:ext cx="2490840" cy="3548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ment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s 6 –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dial Course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upervision A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 for 150 incoming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um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flipH="1">
            <a:off x="6019560" y="3276720"/>
            <a:ext cx="24145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s 9 -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ar Pacing Plans &amp; 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P over 1500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pervision A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 for 15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ing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57800" y="3352680"/>
            <a:ext cx="35514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 - 4630.0   Administ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 - 46270    Eleme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 - 4628.0  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 - 4629.0  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morand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10080" y="2819520"/>
            <a:ext cx="296388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s Elig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um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and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 and 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4120" y="3556080"/>
            <a:ext cx="32274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20:49:52Z</dcterms:created>
  <dc:creator>Ron Robinson</dc:creator>
  <dc:description/>
  <dc:language>en-US</dc:language>
  <cp:lastModifiedBy>Nancy Robinson</cp:lastModifiedBy>
  <dcterms:modified xsi:type="dcterms:W3CDTF">2009-03-10T20:37:13Z</dcterms:modified>
  <cp:revision>6</cp:revision>
  <dc:subject/>
  <dc:title>Summer School  2009</dc:title>
</cp:coreProperties>
</file>